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955F1F-C01F-4E17-A1EB-277A6ACF9A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EE0D2-D0E3-4B27-BD52-7D2E587B3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64C22B-05B8-4C80-806A-D3BF17E1B3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3BABFA-8D11-491D-82B1-72A86080C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CA699-CFFA-4049-87D7-133194AE2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A3667-F9EA-47D9-9269-B5DF4534F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B413A-21DD-44DC-AAA7-484DE2110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FD294-7B02-447A-89F0-D67A10858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9956E-16F1-41EF-9594-3A29676BF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859C7-42E3-4F55-9EE4-F8F6FCD4E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BD8E9-ADA1-4CBA-B18C-12CC73DE3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3337E-31DA-4310-866E-F3C45248F0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FDAEC-1B70-494B-B4F2-78052ADCCE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240" y="3886200"/>
            <a:ext cx="71629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daptat după </a:t>
            </a:r>
            <a:r>
              <a:rPr b="0" i="1" lang="fr-FR" sz="1000" spc="-1" strike="noStrike">
                <a:solidFill>
                  <a:srgbClr val="000000"/>
                </a:solidFill>
                <a:latin typeface="Arial"/>
              </a:rPr>
              <a:t>Manualul de Istorie</a:t>
            </a:r>
            <a:r>
              <a:rPr b="0" lang="ro-RO" sz="1000" spc="-1" strike="noStrike">
                <a:solidFill>
                  <a:srgbClr val="000000"/>
                </a:solidFill>
                <a:latin typeface="Arial"/>
              </a:rPr>
              <a:t>,</a:t>
            </a:r>
            <a:r>
              <a:rPr b="0" lang="en-US" sz="1000" spc="-1" strike="noStrike">
                <a:solidFill>
                  <a:srgbClr val="000000"/>
                </a:solidFill>
                <a:latin typeface="Arial"/>
              </a:rPr>
              <a:t> </a:t>
            </a:r>
            <a:r>
              <a:rPr b="0" i="1" lang="fr-FR" sz="1000" spc="-1" strike="noStrike">
                <a:solidFill>
                  <a:srgbClr val="000000"/>
                </a:solidFill>
                <a:latin typeface="Arial"/>
              </a:rPr>
              <a:t>clasa a V-a</a:t>
            </a:r>
            <a:r>
              <a:rPr b="0" lang="fr-FR"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7" name="Picture 6" descr=""/>
          <p:cNvPicPr/>
          <p:nvPr/>
        </p:nvPicPr>
        <p:blipFill>
          <a:blip r:embed="rId1"/>
          <a:stretch/>
        </p:blipFill>
        <p:spPr>
          <a:xfrm>
            <a:off x="4952880" y="1447920"/>
            <a:ext cx="360072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cp:lastModifiedBy>
  <dcterms:modified xsi:type="dcterms:W3CDTF">2012-06-15T12:33:04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